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18A-C1C9-415B-B6C4-2F00AF41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2B8-7E74-4C7F-BCA8-87D9105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95C-578D-482B-8F90-50581360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C1D-C3A2-486A-88BF-C379017A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994-084E-4B91-820D-11F9083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6BE-6F7E-4D51-B6FA-D3CCE5D4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BD7-E579-4828-8BD7-9F66586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08B-CFE9-4498-9D6E-7684E2C0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BAE-D20F-4853-AC8C-0CF2540C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97C-C148-4347-A1DE-1FAA8F6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9B9-7C0A-4E8C-A341-6941B1D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4E9-299E-48F6-ABAA-00C155D4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AE3F-1BFB-4464-A8E2-302C2095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ingd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fungus among 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685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es everyone like mushroo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such fun guy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52280" y="4724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Cj01411110000[1]"/>
          <p:cNvPicPr/>
          <p:nvPr/>
        </p:nvPicPr>
        <p:blipFill>
          <a:blip r:embed="rId1"/>
          <a:stretch/>
        </p:blipFill>
        <p:spPr>
          <a:xfrm>
            <a:off x="6019920" y="1371600"/>
            <a:ext cx="2620800" cy="2940120"/>
          </a:xfrm>
          <a:prstGeom prst="rect">
            <a:avLst/>
          </a:prstGeom>
          <a:ln w="0">
            <a:noFill/>
          </a:ln>
        </p:spPr>
      </p:pic>
      <p:pic>
        <p:nvPicPr>
          <p:cNvPr id="66" name="MSj03886080000[1].wav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355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la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y ge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95320" y="609480"/>
            <a:ext cx="40388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(except y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it (heter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6091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hen (with alg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ff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04920" y="4191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200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ushroom"/>
          <p:cNvPicPr/>
          <p:nvPr/>
        </p:nvPicPr>
        <p:blipFill>
          <a:blip r:embed="rId1"/>
          <a:stretch/>
        </p:blipFill>
        <p:spPr>
          <a:xfrm>
            <a:off x="0" y="0"/>
            <a:ext cx="9144000" cy="8367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04920" y="47242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sh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yeast"/>
          <p:cNvPicPr/>
          <p:nvPr/>
        </p:nvPicPr>
        <p:blipFill>
          <a:blip r:embed="rId1"/>
          <a:stretch/>
        </p:blipFill>
        <p:spPr>
          <a:xfrm>
            <a:off x="0" y="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57200" y="5335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mold"/>
          <p:cNvPicPr/>
          <p:nvPr/>
        </p:nvPicPr>
        <p:blipFill>
          <a:blip r:embed="rId1"/>
          <a:stretch/>
        </p:blipFill>
        <p:spPr>
          <a:xfrm>
            <a:off x="0" y="0"/>
            <a:ext cx="9144000" cy="8994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57200" y="533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oneysuckle_mildew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90720" y="7621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ld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chen-3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2767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c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Truffles_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80880" y="3049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ff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13:53Z</dcterms:created>
  <dc:creator>Jean Kavanagh</dc:creator>
  <dc:description/>
  <dc:language>en-US</dc:language>
  <cp:lastModifiedBy>Jean Kavanagh</cp:lastModifiedBy>
  <dcterms:modified xsi:type="dcterms:W3CDTF">2010-05-05T18:45:22Z</dcterms:modified>
  <cp:revision>11</cp:revision>
  <dc:subject/>
  <dc:title>Kingdom Fungi</dc:title>
</cp:coreProperties>
</file>